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EE88-D0DB-49F9-9F53-9231A258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twinkle_toes_engineering.home.comcast.ne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A0A-D332-4AA0-BC39-38971F9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CBA-0617-4E09-9F52-ED16F92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993-B5A2-45EE-B04C-8C65C4FD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5F0-6C6C-4EBB-A9F9-10799FA5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B56-AED8-43A6-AFF1-F49851F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9F7-BCBB-4432-B0FE-7F3350A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D2F-10AE-44F7-B24B-3D08044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740-DC40-46BE-AD4A-BCF63524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941-3F0C-4847-A83F-B6C2291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16A-5952-4901-94C8-CB4225FA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C3B-5BB5-4DD2-B64B-F948AAFD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A22-FEDE-428A-A8E3-8EB37899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E4E7-3CFE-42DC-A290-53F0F117E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P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---&gt; 4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12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3 ATP + 2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8480" y="2819520"/>
            <a:ext cx="57470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get that Photosynthesis song out of your head and fill it with a photosynthesis ra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www.youtube.com/watch?v=pE82qtKSSH4&amp;feature=end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might prefer this video for the r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www.youtube.com/watch?v=Wi60tQa8jfE&amp;feature=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2-11-01T09:34:18Z</dcterms:modified>
  <cp:revision>26</cp:revision>
  <dc:subject/>
  <dc:title>PowerPoint Presentation</dc:title>
</cp:coreProperties>
</file>